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8EA97-A22E-4AC4-8123-2CFA7522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731F-1992-4941-B35F-EB68FEE9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DD37E-2CF2-40DC-A078-EC8DCFA78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D81E9-8901-4E74-86DD-FF8562B0D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ECBA8-204E-4774-8412-A28A88EE6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5DD38-BB0E-49C0-806F-99ACD771B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286AB-C018-4795-B01C-C0DD98B80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A614C-8664-4B4D-BEDD-D37EC0D8B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A9BD7-39F0-493F-A1CF-C0A60CBF1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17CDE-A299-4127-8073-736001CF2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6FFEF-B19C-4444-B47E-F006B89F1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419B-947C-407D-BD38-2C66AA30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E272B-98D8-48F3-BCBA-164851C64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FB88-9EEE-4E64-A328-9FE7E0880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B33EC-0D1B-4FC7-8EF3-FDA93A259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59533-6114-4617-949A-A2B0EE47E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869AC-C658-4813-AC93-1D9D64672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ED02-2BF7-4EA9-B705-B2A1A807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F461-E8FD-45CF-AB11-6C6FF064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C9DA-1060-469A-A28D-839E45E3E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76A9D-E09F-4CD2-82DC-49494AE82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FF971-DCBA-4FA1-92CE-4BAE801D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47E6D-4B84-49A1-9009-9F54B9F5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8C4D-AAE9-4032-952B-E8042D834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D64E-373C-470C-A292-1598AE85BE1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A:\paint.GIF"/>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5634-8F65-4BAE-8C40-AEAFB61F60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 European History Test Review  Part Four</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gress of Vienna through Imperialism</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embrist Uprising</a:t>
            </a:r>
            <a:endParaRPr b="0" lang="en-US" sz="4000" spc="-1" strike="noStrike">
              <a:solidFill>
                <a:srgbClr val="000000"/>
              </a:solidFill>
              <a:latin typeface="Arial Black"/>
            </a:endParaRPr>
          </a:p>
        </p:txBody>
      </p:sp>
      <p:sp>
        <p:nvSpPr>
          <p:cNvPr id="103" name="PlaceHolder 2"/>
          <p:cNvSpPr>
            <a:spLocks noGrp="1"/>
          </p:cNvSpPr>
          <p:nvPr>
            <p:ph/>
          </p:nvPr>
        </p:nvSpPr>
        <p:spPr>
          <a:xfrm>
            <a:off x="-360" y="1447920"/>
            <a:ext cx="8839080" cy="4171680"/>
          </a:xfrm>
          <a:prstGeom prst="rect">
            <a:avLst/>
          </a:prstGeom>
          <a:noFill/>
          <a:ln w="0">
            <a:noFill/>
          </a:ln>
        </p:spPr>
        <p:txBody>
          <a:bodyPr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cret revolutionary groups were operating in Russia by the early 1800’s. </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Society: wanted a constitutional monarch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ociety: wanted a democratic republic</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ex I died, liberals wanted his brother Constantine to rule, but he abdicated in favor of his younger brother, Nicholas.</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5: revolutionaries rioted &amp; were crushed.  </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et up a very repressive police state.</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1830)</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4582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XVIII died in 1824, bringing Charles X to the thron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was extremely conservative, and had been the leader of the “ultras” before he became king.</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leadership, the Catholic church was given control of Catholic schools &amp; a premier was appointed without legislative approval.</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position in Fra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30, the Chamber of Deputies cast a vote of “no confidence” in the king, and the king disbanded the legislature and called for new election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lections brought a more liberal Chamber, and the king passed the July Ordinances (4 ordinances) in respons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09" name="PlaceHolder 2"/>
          <p:cNvSpPr>
            <a:spLocks noGrp="1"/>
          </p:cNvSpPr>
          <p:nvPr>
            <p:ph/>
          </p:nvPr>
        </p:nvSpPr>
        <p:spPr>
          <a:xfrm>
            <a:off x="0" y="1599840"/>
            <a:ext cx="91440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ly Ordinances dissolved the Chamber, censored the press, restricted voting to only a few rich nobles, and censored freedom of speech &amp; assembly.</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sponse, rioters filled Paris streets and revolution broke ou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Philippe became the new king of France &amp; ruled until 1848.</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extended the right to vote to the upper middle-class.</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volutions</a:t>
            </a:r>
            <a:endParaRPr b="0" lang="en-US" sz="4000" spc="-1" strike="noStrike">
              <a:solidFill>
                <a:srgbClr val="000000"/>
              </a:solidFill>
              <a:latin typeface="Arial Black"/>
            </a:endParaRPr>
          </a:p>
        </p:txBody>
      </p:sp>
      <p:sp>
        <p:nvSpPr>
          <p:cNvPr id="111" name="PlaceHolder 2"/>
          <p:cNvSpPr>
            <a:spLocks noGrp="1"/>
          </p:cNvSpPr>
          <p:nvPr>
            <p:ph/>
          </p:nvPr>
        </p:nvSpPr>
        <p:spPr>
          <a:xfrm>
            <a:off x="0" y="1676520"/>
            <a:ext cx="9144000" cy="4171680"/>
          </a:xfrm>
          <a:prstGeom prst="rect">
            <a:avLst/>
          </a:prstGeom>
          <a:noFill/>
          <a:ln w="0">
            <a:noFill/>
          </a:ln>
        </p:spPr>
        <p:txBody>
          <a:bodyPr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also occurred in 1830 in Belgium, Poland, parts of Italy, and parts of Germany.</a:t>
            </a:r>
            <a:endParaRPr b="0" lang="en-US" sz="32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gium broke away from the Dutch Republic &amp; set up a Constitutional monarchy.</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lost its constitution &amp; Polish cities were occupied by Russian troops</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s in Parma, Modena, and the Papal States were all put down.</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mall German states got constitutions in 1830, but Austria &amp; Prussia made no reform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48</a:t>
            </a:r>
            <a:endParaRPr b="0" lang="en-US" sz="4000" spc="-1" strike="noStrike">
              <a:solidFill>
                <a:srgbClr val="000000"/>
              </a:solidFill>
              <a:latin typeface="Arial Black"/>
            </a:endParaRPr>
          </a:p>
        </p:txBody>
      </p:sp>
      <p:sp>
        <p:nvSpPr>
          <p:cNvPr id="113" name="PlaceHolder 2"/>
          <p:cNvSpPr>
            <a:spLocks noGrp="1"/>
          </p:cNvSpPr>
          <p:nvPr>
            <p:ph/>
          </p:nvPr>
        </p:nvSpPr>
        <p:spPr>
          <a:xfrm>
            <a:off x="0" y="1885680"/>
            <a:ext cx="914400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occurred in almost every country on the European continent, but few were successful in gaining liberal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most 1848 revolutions were: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mocracy</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The February Revolution</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1848: bad harvests &amp; depression led to unemployment &amp; high food prices which hurt the lower classes badly.</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troduction of machinery into French factories, more jobs were lost, and industrial profits began to fall.</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the working class and the middle class were unhappy with Louis Philippe.</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m</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called attention to the plight of the poor in France and the necessity of government action to bring relief.</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planned to end unemployment by creating “National workshops” (social workshops).</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from many sources supported an end to the monarchy.</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groups all agreed that they wanted the resignation of Louis’ chief advisor, Guizot.</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21st, a revolutionary banquet was held without approval, and when the government tried to stop it, the rioters took to the streets and Guizot was forced to fle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then abdicated.</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in  Chaos</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utes over who would rule France came to a head, with the middle class wanting protection of property, the workers wanting economic relief, and the nobility wanting a monarch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hops created by Louis Blanc were a failure, and unemployment continued to ris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iots in June, General Cavaignac made France a temporary dictatorship.</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NINETEENTH  CENTURY</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 of change, the Nineteenth century saw the transformation from the Napoleonic period to the modern worl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an with the defeat of Napoleon and ended with an industrialized Europe with new political alliances &amp; great influence in most parts of the world. </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itution of the 2nd Republic</a:t>
            </a:r>
            <a:endParaRPr b="0" lang="en-US" sz="4000" spc="-1" strike="noStrike">
              <a:solidFill>
                <a:srgbClr val="000000"/>
              </a:solidFill>
              <a:latin typeface="Arial Black"/>
            </a:endParaRPr>
          </a:p>
        </p:txBody>
      </p:sp>
      <p:sp>
        <p:nvSpPr>
          <p:cNvPr id="123" name="PlaceHolder 2"/>
          <p:cNvSpPr>
            <a:spLocks noGrp="1"/>
          </p:cNvSpPr>
          <p:nvPr>
            <p:ph/>
          </p:nvPr>
        </p:nvSpPr>
        <p:spPr>
          <a:xfrm>
            <a:off x="-360" y="1219320"/>
            <a:ext cx="8915400" cy="417168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848: The new constitution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 (speech, press, religion, assembly, propert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socialism</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meral legislature with three-year term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cy with a four year term.</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Napoleon was elected President of France in Dec. 1848, and became emperor in 1851 (Napoleon III).</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y  in  1848</a:t>
            </a:r>
            <a:endParaRPr b="0" lang="en-US" sz="4000" spc="-1" strike="noStrike">
              <a:solidFill>
                <a:srgbClr val="000000"/>
              </a:solidFill>
              <a:latin typeface="Arial Black"/>
            </a:endParaRPr>
          </a:p>
        </p:txBody>
      </p:sp>
      <p:sp>
        <p:nvSpPr>
          <p:cNvPr id="125" name="PlaceHolder 2"/>
          <p:cNvSpPr>
            <a:spLocks noGrp="1"/>
          </p:cNvSpPr>
          <p:nvPr>
            <p:ph/>
          </p:nvPr>
        </p:nvSpPr>
        <p:spPr>
          <a:xfrm>
            <a:off x="228240" y="1447920"/>
            <a:ext cx="8915400" cy="4171680"/>
          </a:xfrm>
          <a:prstGeom prst="rect">
            <a:avLst/>
          </a:prstGeom>
          <a:noFill/>
          <a:ln w="0">
            <a:noFill/>
          </a:ln>
        </p:spPr>
        <p:txBody>
          <a:bodyPr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s and professionals in many German states revolted in 1848 in an attempt to gain the liberal concessions that were previously promised by Prussian King Frederick William IV.</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48, he had created the Zollverein (German Customs Union) to remove internal tariffs and tolls and to stimulate German commerce.</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ollverein united many German states, economicall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  in  Berlin </a:t>
            </a:r>
            <a:endParaRPr b="0" lang="en-US" sz="4000" spc="-1" strike="noStrike">
              <a:solidFill>
                <a:srgbClr val="000000"/>
              </a:solidFill>
              <a:latin typeface="Arial Black"/>
            </a:endParaRPr>
          </a:p>
        </p:txBody>
      </p:sp>
      <p:sp>
        <p:nvSpPr>
          <p:cNvPr id="127" name="PlaceHolder 2"/>
          <p:cNvSpPr>
            <a:spLocks noGrp="1"/>
          </p:cNvSpPr>
          <p:nvPr>
            <p:ph/>
          </p:nvPr>
        </p:nvSpPr>
        <p:spPr>
          <a:xfrm>
            <a:off x="304560" y="1885680"/>
            <a:ext cx="883908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liberals revolted and forced Fred Will to accept their demands.  </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called a constitutional assembly, the Frankfurt Assembly, to strengthen the German confederation. They couldn’t agree on which German states to include or whether to have a republic or a monarch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opposed any sort of constitution for the confederacy.</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kfurt  Assembly</a:t>
            </a:r>
            <a:endParaRPr b="0" lang="en-US" sz="4000" spc="-1" strike="noStrike">
              <a:solidFill>
                <a:srgbClr val="000000"/>
              </a:solidFill>
              <a:latin typeface="Arial Black"/>
            </a:endParaRPr>
          </a:p>
        </p:txBody>
      </p:sp>
      <p:sp>
        <p:nvSpPr>
          <p:cNvPr id="129" name="PlaceHolder 2"/>
          <p:cNvSpPr>
            <a:spLocks noGrp="1"/>
          </p:cNvSpPr>
          <p:nvPr>
            <p:ph/>
          </p:nvPr>
        </p:nvSpPr>
        <p:spPr>
          <a:xfrm>
            <a:off x="0" y="1523520"/>
            <a:ext cx="91440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mbly finally wrote a constitution which called for a liberal constitutional monarchy.  </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offered the crown of Germany to Frederick, he refused to take it, saying he “wouldn’t accept the imperial crown from the gutte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nded the assembly and any hopes of liberal reform.</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asting result: more states joined the Zollverein.</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divided into several small states, most of whom were occupied by foreign power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nationalists wanted unification and formed secret societies such as the carbonari and Mazzini’s Young Ital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orgimento” (revival of nationalist pride ) drove the revolution of 1848.</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3" name="PlaceHolder 2"/>
          <p:cNvSpPr>
            <a:spLocks noGrp="1"/>
          </p:cNvSpPr>
          <p:nvPr>
            <p:ph/>
          </p:nvPr>
        </p:nvSpPr>
        <p:spPr>
          <a:xfrm>
            <a:off x="0" y="1885680"/>
            <a:ext cx="914400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848: revolts broke out in the Papal states, Tuscany, Naples, and Sardinia, and these rulers granted liberal constitution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mbardy-Venetia revolted against Austria and Naples, Sardinia, and the Pope sent troops to help them.  In the process, Sardinia annexed L-V, Parma, and Modena.</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talian states then withdrew their support of LV and Austria regained control.</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oman Republic</a:t>
            </a:r>
            <a:endParaRPr b="0" lang="en-US" sz="4000" spc="-1" strike="noStrike">
              <a:solidFill>
                <a:srgbClr val="000000"/>
              </a:solidFill>
              <a:latin typeface="Arial Black"/>
            </a:endParaRPr>
          </a:p>
        </p:txBody>
      </p:sp>
      <p:sp>
        <p:nvSpPr>
          <p:cNvPr id="135" name="PlaceHolder 2"/>
          <p:cNvSpPr>
            <a:spLocks noGrp="1"/>
          </p:cNvSpPr>
          <p:nvPr>
            <p:ph/>
          </p:nvPr>
        </p:nvSpPr>
        <p:spPr>
          <a:xfrm>
            <a:off x="0" y="1447920"/>
            <a:ext cx="9144000" cy="417168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appeared that Austria was going to defeat any chance at Italian unification and independence, radical revolution broke out in Rome &amp; Sardinia.</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amp; Mazzini ousted the Pope &amp; proclaimed a democratic republic in Rome.  In Sardinia, the king was forced to continue fighting the Austrian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s defeated Sardinia, and Napoleon III sent troops to reinstate the Pope.</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7" name="PlaceHolder 2"/>
          <p:cNvSpPr>
            <a:spLocks noGrp="1"/>
          </p:cNvSpPr>
          <p:nvPr>
            <p:ph/>
          </p:nvPr>
        </p:nvSpPr>
        <p:spPr>
          <a:xfrm>
            <a:off x="457200" y="2133720"/>
            <a:ext cx="8305920" cy="417168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 empire included a large number of ethnic minorities within its borders.  Their individual nationality was suppressed by the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March Days,” revolts occurred in Italy, Hungary, Bohemia, &amp; Austria itself.</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9" name="PlaceHolder 2"/>
          <p:cNvSpPr>
            <a:spLocks noGrp="1"/>
          </p:cNvSpPr>
          <p:nvPr>
            <p:ph/>
          </p:nvPr>
        </p:nvSpPr>
        <p:spPr>
          <a:xfrm>
            <a:off x="380520" y="220932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olutions were led by a minority of intellectuals, students, and labor leaders and were not widely supported by the majority of the peopl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sting result was the abdication of Metternich.</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ngary</a:t>
            </a:r>
            <a:endParaRPr b="0" lang="en-US" sz="4000" spc="-1" strike="noStrike">
              <a:solidFill>
                <a:srgbClr val="000000"/>
              </a:solidFill>
              <a:latin typeface="Arial Black"/>
            </a:endParaRPr>
          </a:p>
        </p:txBody>
      </p:sp>
      <p:sp>
        <p:nvSpPr>
          <p:cNvPr id="141" name="PlaceHolder 2"/>
          <p:cNvSpPr>
            <a:spLocks noGrp="1"/>
          </p:cNvSpPr>
          <p:nvPr>
            <p:ph/>
          </p:nvPr>
        </p:nvSpPr>
        <p:spPr>
          <a:xfrm>
            <a:off x="0" y="1885680"/>
            <a:ext cx="914400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ngary, Louis Kossuth led a revolt in the Hungarian Diet which made Hungary autonomous while accepting the emperor as the king of Hungary. He outlawed serfdom, forced the nobility to pay taxes, and required public officials to speak Hungarian.</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Kossuth continued to oppress Slavic minorities in Hungary, Russia helped Austria put down the Hungarian revolt.</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gress of Vienna</a:t>
            </a:r>
            <a:endParaRPr b="0" lang="en-US" sz="4000" spc="-1" strike="noStrike">
              <a:solidFill>
                <a:srgbClr val="000000"/>
              </a:solidFill>
              <a:latin typeface="Arial Black"/>
            </a:endParaRPr>
          </a:p>
        </p:txBody>
      </p:sp>
      <p:sp>
        <p:nvSpPr>
          <p:cNvPr id="89" name="PlaceHolder 2"/>
          <p:cNvSpPr>
            <a:spLocks noGrp="1"/>
          </p:cNvSpPr>
          <p:nvPr>
            <p:ph/>
          </p:nvPr>
        </p:nvSpPr>
        <p:spPr>
          <a:xfrm>
            <a:off x="456840" y="1599840"/>
            <a:ext cx="8178840" cy="4172040"/>
          </a:xfrm>
          <a:prstGeom prst="rect">
            <a:avLst/>
          </a:prstGeom>
          <a:noFill/>
          <a:ln w="0">
            <a:noFill/>
          </a:ln>
        </p:spPr>
        <p:txBody>
          <a:bodyPr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s included:</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the spoils of war</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a settlement to return Europe, as closely as possible to the way it was before the French revolu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of conservatism &amp; suppression of liberalism &amp; divisive nationalism</a:t>
            </a:r>
            <a:endParaRPr b="0" lang="en-US" sz="2800" spc="-1" strike="noStrike">
              <a:solidFill>
                <a:srgbClr val="000000"/>
              </a:solidFill>
              <a:latin typeface="Arial"/>
            </a:endParaRPr>
          </a:p>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4 = England (Castlereagh), Russia      (Alexander I), Prussia (Fred. Will. II), &amp; Austria (Metternich).</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DUSTRIAL REVOLUTIO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trial revolution began in England in the mid 18th century, but many of its effects were not felt on the continent until the 19th centu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widespread use of machinery that characterized the industrial revolution, because the output of products accelerated so enormously by the substitution of machines for human labor in manufacturing.</a:t>
            </a: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uses of Industrialism</a:t>
            </a:r>
            <a:endParaRPr b="0" lang="en-US" sz="4000" spc="-1" strike="noStrike">
              <a:solidFill>
                <a:srgbClr val="000000"/>
              </a:solidFill>
              <a:latin typeface="Arial Black"/>
            </a:endParaRPr>
          </a:p>
        </p:txBody>
      </p:sp>
      <p:sp>
        <p:nvSpPr>
          <p:cNvPr id="145" name="PlaceHolder 2"/>
          <p:cNvSpPr>
            <a:spLocks noGrp="1"/>
          </p:cNvSpPr>
          <p:nvPr>
            <p:ph/>
          </p:nvPr>
        </p:nvSpPr>
        <p:spPr>
          <a:xfrm>
            <a:off x="457200" y="1885680"/>
            <a:ext cx="86868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capital due to growth of capitalism &amp; trad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 work ethic  and new attitudes toward change caused by the Enlighte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caused an increased need for good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 acts provided cheap labor &amp; urbanization.</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ustrial Rev. in England</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599840"/>
            <a:ext cx="8178840" cy="4172040"/>
          </a:xfrm>
          <a:prstGeom prst="rect">
            <a:avLst/>
          </a:prstGeom>
          <a:noFill/>
          <a:ln w="0">
            <a:noFill/>
          </a:ln>
        </p:spPr>
        <p:txBody>
          <a:bodyPr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in England because:</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for manufactured goods due to wealth of the upper and middle class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natural resourc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workers (Eng. Population doubled between 1700 &amp; 1800).</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materials from its coloni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ts with investment money</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government ready to further the interests of the capitalists</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ason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intellectuals urged a free trade poli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guild restriction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for market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l suprema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ment of inventions (patents, copyrights, etc).</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banking system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 in Production</a:t>
            </a:r>
            <a:endParaRPr b="0" lang="en-US" sz="4000" spc="-1" strike="noStrike">
              <a:solidFill>
                <a:srgbClr val="000000"/>
              </a:solidFill>
              <a:latin typeface="Arial Black"/>
            </a:endParaRPr>
          </a:p>
        </p:txBody>
      </p:sp>
      <p:sp>
        <p:nvSpPr>
          <p:cNvPr id="151" name="PlaceHolder 2"/>
          <p:cNvSpPr>
            <a:spLocks noGrp="1"/>
          </p:cNvSpPr>
          <p:nvPr>
            <p:ph/>
          </p:nvPr>
        </p:nvSpPr>
        <p:spPr>
          <a:xfrm>
            <a:off x="380520" y="1523520"/>
            <a:ext cx="817884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ile industry 1st to industrializ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thods of iron, coal, and steel produc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urces of power (steam engi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communication &amp; transportation (Railroads &amp; canals &amp; telegraph)</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 revolu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system</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tiles</a:t>
            </a:r>
            <a:endParaRPr b="0" lang="en-US" sz="4000" spc="-1" strike="noStrike">
              <a:solidFill>
                <a:srgbClr val="000000"/>
              </a:solidFill>
              <a:latin typeface="Arial Black"/>
            </a:endParaRPr>
          </a:p>
        </p:txBody>
      </p:sp>
      <p:sp>
        <p:nvSpPr>
          <p:cNvPr id="153" name="PlaceHolder 2"/>
          <p:cNvSpPr>
            <a:spLocks noGrp="1"/>
          </p:cNvSpPr>
          <p:nvPr>
            <p:ph/>
          </p:nvPr>
        </p:nvSpPr>
        <p:spPr>
          <a:xfrm>
            <a:off x="0" y="1142640"/>
            <a:ext cx="9144000" cy="4172040"/>
          </a:xfrm>
          <a:prstGeom prst="rect">
            <a:avLst/>
          </a:prstGeom>
          <a:noFill/>
          <a:ln w="0">
            <a:noFill/>
          </a:ln>
        </p:spPr>
        <p:txBody>
          <a:bodyPr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market for cotton cloth.  Therefore, great efforts were made to increase the amount of cotton cloth produced in England.</a:t>
            </a:r>
            <a:endParaRPr b="0" lang="en-US" sz="3200" spc="-1" strike="noStrike">
              <a:solidFill>
                <a:srgbClr val="000000"/>
              </a:solidFill>
              <a:latin typeface="Arial"/>
            </a:endParaRPr>
          </a:p>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ons:</a:t>
            </a:r>
            <a:endParaRPr b="0" lang="en-US" sz="32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shuttle: increased speed of weaving</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Jenny: spun cotton fiber faster</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rame: spun cotton fiber quickly &amp; produced a finer thread.</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mule: combined frame &amp; jenn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loom: wove automaticall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on gin: separated cotton fiber from seed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599840"/>
            <a:ext cx="817884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 smelted with coal, not charcoal</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 Engine (James Watt) powered factor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roads, canals, &amp; steam locomotiv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graph &amp; telepho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banking &amp; credit system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ank of England could issue bank notes</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and German Industrialization</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arly 19th century, industrialization spread to France.  </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experienced its greatest period of industrial growth from 1850 - 1870.</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as hampered by guild restrictions, poor transportation, &amp; lack of unification.</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began by mid century, but was greatest after 1871.</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Changes</a:t>
            </a:r>
            <a:endParaRPr b="0" lang="en-US" sz="4000" spc="-1" strike="noStrike">
              <a:solidFill>
                <a:srgbClr val="000000"/>
              </a:solidFill>
              <a:latin typeface="Arial Black"/>
            </a:endParaRPr>
          </a:p>
        </p:txBody>
      </p:sp>
      <p:sp>
        <p:nvSpPr>
          <p:cNvPr id="159" name="PlaceHolder 2"/>
          <p:cNvSpPr>
            <a:spLocks noGrp="1"/>
          </p:cNvSpPr>
          <p:nvPr>
            <p:ph/>
          </p:nvPr>
        </p:nvSpPr>
        <p:spPr>
          <a:xfrm>
            <a:off x="228240" y="1885680"/>
            <a:ext cx="89154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British population tripled between 1800 &amp; 1900.</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 led to more influence by the middle class &amp; eventually the working clas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down of the family as cottage industries are replaced by the factory system.</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ed aristocracy threatened by the growing wealth &amp; power of the industrialists.</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abor</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received low, often subsistence,  wages &amp; worked in often unsafe condition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women, and children often worked 16-18 hour day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s rose on the average of about 2% per year in the 1800’s in industrial jobs in England.</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rns of the Congress</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53452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Power (checks &amp; balances): Wanted to make sure no single power could dominate Europe as France had don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cy: wanted the restoration of monarchies &amp; the return of all original lands (baseline = 1792)</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mnity: France paid 700 million Francs to support an army of occupation until 1820.</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abor  Conditions</a:t>
            </a:r>
            <a:endParaRPr b="0" lang="en-US" sz="4000" spc="-1" strike="noStrike">
              <a:solidFill>
                <a:srgbClr val="000000"/>
              </a:solidFill>
              <a:latin typeface="Arial Black"/>
            </a:endParaRPr>
          </a:p>
        </p:txBody>
      </p:sp>
      <p:sp>
        <p:nvSpPr>
          <p:cNvPr id="163" name="PlaceHolder 2"/>
          <p:cNvSpPr>
            <a:spLocks noGrp="1"/>
          </p:cNvSpPr>
          <p:nvPr>
            <p:ph/>
          </p:nvPr>
        </p:nvSpPr>
        <p:spPr>
          <a:xfrm>
            <a:off x="0" y="1523520"/>
            <a:ext cx="9144000" cy="4172040"/>
          </a:xfrm>
          <a:prstGeom prst="rect">
            <a:avLst/>
          </a:prstGeom>
          <a:noFill/>
          <a:ln w="0">
            <a:noFill/>
          </a:ln>
        </p:spPr>
        <p:txBody>
          <a:bodyPr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workers followed three methods to improve their conditions:</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some sabotaged machines &amp; killed bosses, but this was not successful in changing condition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s: Unions were initially outlawed in England &amp; France, but were finally successful by the late 180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Agitation: Chartism &amp; general agitation led to reforms, such as the factory act, the mines act, and the 10 hours bil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lassical Economis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2209320"/>
            <a:ext cx="838188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Smith: 1776: </a:t>
            </a:r>
            <a:r>
              <a:rPr b="0" lang="en-US" sz="3200" spc="-1" strike="noStrike" u="sng">
                <a:solidFill>
                  <a:srgbClr val="000000"/>
                </a:solidFill>
                <a:uFillTx/>
                <a:latin typeface="Arial"/>
              </a:rPr>
              <a:t>The Wealth of Na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ndividuals working for their own self-interest would benefit the economy better than mercantilist polic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visible hand” of supply &amp; demand should dictate prices &amp; production.</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economics (early capitalism)</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Malthus: </a:t>
            </a:r>
            <a:r>
              <a:rPr b="0" lang="en-US" sz="3200" spc="-1" strike="noStrike" u="sng">
                <a:solidFill>
                  <a:srgbClr val="000000"/>
                </a:solidFill>
                <a:uFillTx/>
                <a:latin typeface="Arial"/>
              </a:rPr>
              <a:t>Essay on Population</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pulation grew geometrically, while the food supply grew arithmetically, thus eventually leading to famine &amp;/or war which would check population growth.</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or should limit their offspring if they wanted to improve their standard of living.</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9" name="PlaceHolder 2"/>
          <p:cNvSpPr>
            <a:spLocks noGrp="1"/>
          </p:cNvSpPr>
          <p:nvPr>
            <p:ph/>
          </p:nvPr>
        </p:nvSpPr>
        <p:spPr>
          <a:xfrm>
            <a:off x="0" y="1523520"/>
            <a:ext cx="914400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Ricardo: </a:t>
            </a:r>
            <a:r>
              <a:rPr b="0" lang="en-US" sz="3200" spc="-1" strike="noStrike" u="sng">
                <a:solidFill>
                  <a:srgbClr val="000000"/>
                </a:solidFill>
                <a:uFillTx/>
                <a:latin typeface="Arial"/>
              </a:rPr>
              <a:t>The Principles of Political Econom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ron law of wages:” there is a point where the market wage will constantly tend to approach the natural wage.  If you pay a market wage below the natural wage (what workers need to survive), they will die off &amp; a smaller labor pool can demand higher wages.  If you pay a market wage significantly more than the natural wage, they will have more kids &amp; their standard of living will drop.</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capitalism.</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Bentham: Utilitarianism: </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economics but wanted policies which would effect the “greatest good for the greatest number.”</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f an individual harmed the common good by acting in his own self-interest, then the government should step in.  </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believed that government could step in to pay for research &amp; development &amp; education.</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iberalism</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Stuart Mill: </a:t>
            </a:r>
            <a:r>
              <a:rPr b="0" lang="en-US" sz="3200" spc="-1" strike="noStrike" u="sng">
                <a:solidFill>
                  <a:srgbClr val="000000"/>
                </a:solidFill>
                <a:uFillTx/>
                <a:latin typeface="Arial"/>
              </a:rPr>
              <a:t>On Liberty</a:t>
            </a:r>
            <a:r>
              <a:rPr b="0" lang="en-US" sz="3200" spc="-1" strike="noStrike">
                <a:solidFill>
                  <a:srgbClr val="000000"/>
                </a:solidFill>
                <a:latin typeface="Arial"/>
              </a:rPr>
              <a:t>; </a:t>
            </a:r>
            <a:r>
              <a:rPr b="0" lang="en-US" sz="3200" spc="-1" strike="noStrike" u="sng">
                <a:solidFill>
                  <a:srgbClr val="000000"/>
                </a:solidFill>
                <a:uFillTx/>
                <a:latin typeface="Arial"/>
              </a:rPr>
              <a:t>Principles of Political Economy</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s Principle: Persons should have complete freedom of action, speech, etc. as long as their actions do not harm others.  If they cause harm, then the gov’t should stop the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the tyranny of the majority.</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ll, continued</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5680"/>
            <a:ext cx="86868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 served in Parliament for a time and championed the following causes:</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workers to organize into un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legislation to improve working condit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suffrage (for all men &amp; women over 21)</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educatio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political/economic rights for wome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 representation.</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arly Socialists</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can be defined as an economic system in which the means of production, exchange, and distribution are owned by the state rather than private individual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bolish the abuses of capitalism by promoting collectiv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ranged from strictly economic reform in the context of a democratic government to the extreme of Marxism.</a:t>
            </a: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offered no practical plan for achieving the ideal societies they envisioned and thought industrialists would support their ideas as soon as they saw their merit.</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developed independently in France and England in the 19th century.</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nt-Simon: (1760-1825): French:</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he abolition of private property and the development of an industrial state under the direction of a board of directors made up of scientists &amp; skilled businessmen who would work for the betterment of all people, including the working clas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little practical impact</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re Proudhon: French: “Property is Theft.” Influenced Karl Marx.</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liance System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599840"/>
            <a:ext cx="817884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rt of Europe consisted of several alliances with the purpose of maintaining the conservative settlement designed by the COV.</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ncluded:</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ly Alliance</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druple Alliance (Eng, Austria, Prussia, and Russia) </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intuple Alliance (Quadruple alliance joined by France in 1818)</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Fourier (1772-1837): French:</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for a society made up of small cooperative communities called phalanxes in which economic competition would be eliminated &amp; all work done voluntarily.</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is society would live in communal dwelling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idealistic &amp; failed in his attempts.</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5" name="PlaceHolder 2"/>
          <p:cNvSpPr>
            <a:spLocks noGrp="1"/>
          </p:cNvSpPr>
          <p:nvPr>
            <p:ph/>
          </p:nvPr>
        </p:nvSpPr>
        <p:spPr>
          <a:xfrm>
            <a:off x="0" y="1447920"/>
            <a:ext cx="9144000" cy="4171680"/>
          </a:xfrm>
          <a:prstGeom prst="rect">
            <a:avLst/>
          </a:prstGeom>
          <a:noFill/>
          <a:ln w="0">
            <a:noFill/>
          </a:ln>
        </p:spPr>
        <p:txBody>
          <a:bodyPr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Owen: (1771-1858): successful English industrialist</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vironmental factors influenced people and thought factories and communities needed to be clean, and provide decent wages.  </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outlaw child labor &amp; provide mandatory educa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model cotton mill in Scotland, but failed in his attempts in Indiana.</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 lot to popularize the need for social reform in England.</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7" name="PlaceHolder 2"/>
          <p:cNvSpPr>
            <a:spLocks noGrp="1"/>
          </p:cNvSpPr>
          <p:nvPr>
            <p:ph/>
          </p:nvPr>
        </p:nvSpPr>
        <p:spPr>
          <a:xfrm>
            <a:off x="0" y="1447920"/>
            <a:ext cx="9144000" cy="4171680"/>
          </a:xfrm>
          <a:prstGeom prst="rect">
            <a:avLst/>
          </a:prstGeom>
          <a:noFill/>
          <a:ln w="0">
            <a:noFill/>
          </a:ln>
        </p:spPr>
        <p:txBody>
          <a:bodyPr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French: (1811 - 1882) organized a socialist political party to achieve socialist measures in France.</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governments have the duty of providing workers with farms and shops to replace privately owned ones. He called these national workshops.</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uld be run by the workers for their own good.</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democratic government.</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mined by the provisional gov’t in 1848.</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9th Century British Problems</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ed Aristocracy still monopolized political power due to voting restrictions (10% of adult males could vote in England in 1848).</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ten Boroughs kept industrial centers from being fairly represented (Manchester had no representatives at all in 1800)</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 </a:t>
            </a:r>
            <a:endParaRPr b="0"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Problems</a:t>
            </a: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amp; religious qualifications restricted the right to hold political office. </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alaries for the members of the House of Common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Lords could block all legislation passed by the House of Commons except for revenue bills.</a:t>
            </a:r>
            <a:endParaRPr b="0"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Reforms</a:t>
            </a: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s: Combination Code (that suppressed unions) was repealed &amp; the Criminal Code was reform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Catholic Emancipation Act: permitted Catholics to hold an elected public offic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3: Slavery abolished in the British Empire</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151920"/>
            <a:ext cx="86104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Great Reform Bill of 1832</a:t>
            </a:r>
            <a:endParaRPr b="0" lang="en-US" sz="4000" spc="-1" strike="noStrike">
              <a:solidFill>
                <a:srgbClr val="000000"/>
              </a:solidFill>
              <a:latin typeface="Arial Black"/>
            </a:endParaRPr>
          </a:p>
        </p:txBody>
      </p:sp>
      <p:sp>
        <p:nvSpPr>
          <p:cNvPr id="195" name="PlaceHolder 2"/>
          <p:cNvSpPr>
            <a:spLocks noGrp="1"/>
          </p:cNvSpPr>
          <p:nvPr>
            <p:ph/>
          </p:nvPr>
        </p:nvSpPr>
        <p:spPr>
          <a:xfrm>
            <a:off x="0" y="990720"/>
            <a:ext cx="9144000" cy="417168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ed by the Whigs, this bill yielded to the demands of the middle clas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suffrage to most of the middle class and small land owners, but still denied it to most urban workers &amp; peasan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for redistricting to eliminate rotten borough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more power to the House of Commons</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being threatened with the creation of new Whig peers, the House of Lords passed the bill.</a:t>
            </a: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197" name="PlaceHolder 2"/>
          <p:cNvSpPr>
            <a:spLocks noGrp="1"/>
          </p:cNvSpPr>
          <p:nvPr>
            <p:ph/>
          </p:nvPr>
        </p:nvSpPr>
        <p:spPr>
          <a:xfrm>
            <a:off x="0" y="1523520"/>
            <a:ext cx="9144000" cy="417204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 in the 1830’s by city workers to achieve political reforms and improve their living condition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rter deman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operty qualifications for Parliamen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electoral distric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ballo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Parliamentary election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ies for Parliament</a:t>
            </a:r>
            <a:endParaRPr b="0" lang="en-US" sz="2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ists pushed their demands throughout the 1840’s and the movement culminated with a march of 50,000 protesters in 1848.</a:t>
            </a:r>
            <a:endParaRPr b="0" lang="en-US" sz="3200" spc="-1" strike="noStrike">
              <a:solidFill>
                <a:srgbClr val="000000"/>
              </a:solidFill>
              <a:latin typeface="Arial"/>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Parliament refused to give in to Chartist demands (as a whole package), most of their demands were met through reform legislation, and the movement died out.</a:t>
            </a:r>
            <a:endParaRPr b="0" lang="en-US" sz="32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01" name="PlaceHolder 2"/>
          <p:cNvSpPr>
            <a:spLocks noGrp="1"/>
          </p:cNvSpPr>
          <p:nvPr>
            <p:ph/>
          </p:nvPr>
        </p:nvSpPr>
        <p:spPr>
          <a:xfrm>
            <a:off x="0" y="1523520"/>
            <a:ext cx="914400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Reform Bill of 1867: reduced property qualifications so that most urban workers could vote</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Benjamin Disraeli, the Conservative Party leader who wanted to take credit for the reform.</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 Act of 1872: secret ballot introduc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884: extended suffrage to most peasants.</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the Liberal Leader, Gladstone.</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ults of the Congress of Vienna</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put down revolts in Italy &amp; Spain in the early 1820’s, but broke down by 1825 due to the fact that England was not as conservative as the rest of the members &amp; pulled ou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d conservatism was challenged by the forces of liberalism, &amp; national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settlements later led to the revolutions of 1848.</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30</a:t>
            </a:r>
            <a:endParaRPr b="0" lang="en-US" sz="4000" spc="-1" strike="noStrike">
              <a:solidFill>
                <a:srgbClr val="000000"/>
              </a:solidFill>
              <a:latin typeface="Arial Black"/>
            </a:endParaRPr>
          </a:p>
        </p:txBody>
      </p:sp>
      <p:sp>
        <p:nvSpPr>
          <p:cNvPr id="97" name="PlaceHolder 2"/>
          <p:cNvSpPr>
            <a:spLocks noGrp="1"/>
          </p:cNvSpPr>
          <p:nvPr>
            <p:ph/>
          </p:nvPr>
        </p:nvSpPr>
        <p:spPr>
          <a:xfrm>
            <a:off x="456840" y="1447920"/>
            <a:ext cx="8178840" cy="4171680"/>
          </a:xfrm>
          <a:prstGeom prst="rect">
            <a:avLst/>
          </a:prstGeom>
          <a:noFill/>
          <a:ln w="0">
            <a:noFill/>
          </a:ln>
        </p:spPr>
        <p:txBody>
          <a:bodyPr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1814--restoration of King Ferdinand VII:  revived the old regime &amp; the inquisition.</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Ferdinand ordered his army to attack &amp; recapture former Sp. Colonies in Latin Am., &amp; the army mutinied.</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dinand had to restore the Napoleonic constitution of 1812.</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3: Louis VIII sent troops to restore Ferd VII after another revolt.</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ingdom of the Two Sicilies (Naples)</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15: Restoration of Bourbon King Ferdinand I:  very corrupt &amp; conservativ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Carbonari revolted against king &amp; forced him to accept a more liberal constitution.</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sent an army to Italy to restore the king’s power</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eece</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revolted against Turkish control in 1821, causing a civil wa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8, Russia, Britain, and France joined the war on the side of the Greek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Treaty of Adrianople:  Greek independence &amp; Russia gets part of modern-day Romania.</a:t>
            </a: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5:37:43Z</dcterms:created>
  <dc:creator>Susie Gerard</dc:creator>
  <dc:description/>
  <dc:language>en-US</dc:language>
  <cp:lastModifiedBy>Local User</cp:lastModifiedBy>
  <dcterms:modified xsi:type="dcterms:W3CDTF">2012-01-12T12:34:04Z</dcterms:modified>
  <cp:revision>157</cp:revision>
  <dc:subject/>
  <dc:title>AP European History Test Review  Part Four</dc:title>
</cp:coreProperties>
</file>